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F80-FC8F-468E-9104-AEC1243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346-32A4-446B-97AD-5436FD3E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935-39FA-4116-8997-364AD93A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2E5-6D79-4677-867E-C887BE22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A8F9-C0B7-4249-A73D-47603D60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CD3C-541C-49FC-9B8A-F5418A8E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6309-5C2A-4922-B141-07A5574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459-B879-472E-892E-087B424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E139-EB95-4363-B37F-8E96F72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ABCE-F0C9-4CC3-AE73-EAAC985F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F5B8-63AE-4358-96B0-B106F28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A72-6472-4A99-A4EE-6359100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7E8F-82CF-420B-B83C-C0408AA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1D60-A572-40DD-8FAD-1CC495B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31C6-9C68-4DF8-A3F2-9EA40F7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34F7-97B6-4006-8C18-D8B49A7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7295-ABB7-4DA6-976A-88571C07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884-E143-4E0B-B112-52CE58D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830-4ADD-4A48-BB7D-5DC161E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553-35F9-46D2-A1B3-D1A3E1A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C3F-8FD2-4ECF-A7FE-2266FE6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494-A7E6-4420-B77E-933B09D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2AE-BC18-4BDA-B427-8B3E4E0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638-93E4-436E-B1BD-A7050DA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5805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9B7-6AFF-412F-AB22-4A52C2ACC42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7892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32720" y="5660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B93C-7EC9-4560-9690-002E2B43BFF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85640"/>
            <a:ext cx="72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aki eläinten hyvinvoinnista</a:t>
            </a:r>
            <a:br>
              <a:rPr sz="3600"/>
            </a:br>
            <a:br>
              <a:rPr sz="36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ausuntokierroksen palaute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ittajatilaisuus 15.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asiantuntija Tiina Pullola, maa- ja metsätalousministeri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akunnan nimeäminen valvontaviranomaise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ikallisia valvontaviranomaisia olisivat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maakunta,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isi ja rajaeläinlääkäri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nykyisin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luehallintovirasto, kunnaneläinlääkäri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poliisi, terveystarkastaja, rajaeläinlääkä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nantajilla huoli siitä, että eläinlääkärit valvonnassa korvataan muulla henkilöstöl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BBA-2011-402C-8D26-28E8DC76C6FC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irien ja kissojen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ollinen tunnistusmerkintä ja rekisterö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toivottiin koirien ja kissojen pakollista tunnistusmerkintää ja rekisteröint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öytöeläinten nopeampi palautuminen omistaji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uullinen eläintenp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ssojen arvostuksen lisä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lpottaisi valvontaa (mm. eläintenpitokiellot, hylkääminen, pentutehta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äinten alkuperän selvittäminen helpottu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14A-A735-49CE-8469-CD3834DBD1B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Kuva 1" descr=""/>
          <p:cNvPicPr/>
          <p:nvPr/>
        </p:nvPicPr>
        <p:blipFill>
          <a:blip r:embed="rId7"/>
          <a:stretch/>
        </p:blipFill>
        <p:spPr>
          <a:xfrm>
            <a:off x="7380360" y="1965240"/>
            <a:ext cx="12920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läinsuojelulain kokonaisuud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massa oleva laki vuodelta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lmistelu aloitettiin ministeriössä 2010, työryhmä ja ohjausryhmä aloittivat työnsä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tökohdat: perspektiivi seuraavat 20-30 vuotta, eläinten hyvinvointi suojelun sijaan, uusin tutkimus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elvityksiä teetetty 13 k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-luonnos oli lausuntokierroksella alkuvuod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608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toja määräaikaan mennessä lähes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6E3F-A4D6-4AF9-9EC2-7848FB81800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tokierroksen 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itos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m. seuraavista seiko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käyttäytymistarpeet lain keskiö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tieläintuotannon kannattavuus otettu huom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vunlievitystä edellytetää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n tarkempi sään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2C00-3912-4FDC-BCB3-19EC70112F4C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Kuva 2" descr=""/>
          <p:cNvPicPr/>
          <p:nvPr/>
        </p:nvPicPr>
        <p:blipFill>
          <a:blip r:embed="rId2"/>
          <a:stretch/>
        </p:blipFill>
        <p:spPr>
          <a:xfrm>
            <a:off x="6588000" y="3932280"/>
            <a:ext cx="1897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tokierroksen 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ritiikki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m. seuraavista seiko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sinavetat ja porsitushäkit: ei kiel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tkuva vedensaanti puut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rkistarhaus jatk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irien ja kissojen tunnistusmerkintä ja rekisteröinti puut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6E9-63D9-404E-8791-2102C3752DC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parsinavetat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Lypsylehmien ja hiehojen pitoa kytkettynä ei kiellettä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uiden kuin lypsylehmien ja –hiehojen pito kytkettynä kiellettäisiin 5 vuoden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vestointitukiasetus on muutettu 3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kea ei myönnetä enää 2019 alu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sien parsinavetoiden rakenta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lemassa olevien laajenta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79E-18A6-4476-9670-C35DDE251EC9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:\_A_ Kuvat\nauta01.jpg"/>
          <p:cNvPicPr/>
          <p:nvPr/>
        </p:nvPicPr>
        <p:blipFill>
          <a:blip r:embed="rId4"/>
          <a:stretch/>
        </p:blipFill>
        <p:spPr>
          <a:xfrm>
            <a:off x="6613560" y="3297240"/>
            <a:ext cx="13604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sinavetat tulisi kieltää siirtymäajalla / uusien parsinavetoiden rakentaminen tulisi kielt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ssa ehdotusta kannat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toivottiin säännöllistä jaloittelua (päivittäin/ympäri vuoden) lehmille ja hiehoille, joita pidetään parteen kytketty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376-FD93-4044-A6CE-3A1D583D8AA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Kuva 1" descr=""/>
          <p:cNvPicPr/>
          <p:nvPr/>
        </p:nvPicPr>
        <p:blipFill>
          <a:blip r:embed="rId3"/>
          <a:stretch/>
        </p:blipFill>
        <p:spPr>
          <a:xfrm>
            <a:off x="3633840" y="4352760"/>
            <a:ext cx="2120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tiineytyshä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iineytyshäkkien käyttö kiellettäis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usissa ja peruskorjattavissa sikaloissa kielto lain tullessa voim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lemassa olevissa sikaloissa kiellettäisiin 15 v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ineytyshäkissä pito 4 vrk sallittaisiin jatkossa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kannatettiin tiineytyshäkeistä luopum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 vrk kiinnipitomahdollisuutta ei kannatet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iheuttaa alkiokuolemia, tappeluita, kun emakot takaisin ryh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istettava kokonaan / pidennettävä 10 vuorokau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3FB-2290-40E9-8631-3E1AEEEBF236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porsitushä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situshäkkejä ei kiellettä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vottiin, että porsitushäkit kielletään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issa kannatettiin ehdot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3D49-004B-4AE9-9997-9543AB59BA2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H:\_A_ Kuvat\sika02.jpg"/>
          <p:cNvPicPr/>
          <p:nvPr/>
        </p:nvPicPr>
        <p:blipFill>
          <a:blip r:embed="rId4"/>
          <a:stretch/>
        </p:blipFill>
        <p:spPr>
          <a:xfrm>
            <a:off x="6012000" y="393372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200" y="3013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vedensa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6200" y="169992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oidossa olevien eläinten ruokinnassa ja juotossa on otettava huomioon kunkin eläimen fysiologiset tarpeet ja varmistettava, että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jokainen eläin saa sopivassa määrin hyvälaatuista ravintoa ja vettä tai muuta juotava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hdotusta vastustettiin, toivottiin jatkuvaa vedensaan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edensaanti keskeinen tekijä hyvinvoinn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ysiologian lisäksi myös pitkittynyt janontunne otettava huom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vonnassa vaikea todentaa riittävä vedensa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issa ehdotusta kannatet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ikeuttaisi mm. talviaikaista tarhausta, vasikoiden ulkokasvat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99CC-73F1-435E-87C5-67F21A0E9919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8:55:37Z</dcterms:created>
  <dc:creator>pop</dc:creator>
  <dc:description/>
  <dc:language>en-US</dc:language>
  <cp:lastModifiedBy>Pullola Tiina (MMM)</cp:lastModifiedBy>
  <cp:lastPrinted>2018-08-07T12:22:40Z</cp:lastPrinted>
  <dcterms:modified xsi:type="dcterms:W3CDTF">2018-08-14T11:54:56Z</dcterms:modified>
  <cp:revision>11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OCS AutoSave">
    <vt:lpwstr/>
  </property>
</Properties>
</file>