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DAEB-19B2-4BBB-9D41-88C641EC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1B6-A4AD-48E7-A881-0B938F34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DFC-06A2-435E-AEC4-A7CC9569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108-9F82-4219-A357-EFDFA929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74C2-5081-43E2-8794-E5085D52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AC2A-C081-42BB-AE62-C22FC5B4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89F6-BB11-4EBB-8E02-672BFE87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936C-1C78-4047-A0FE-F2A282DB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AC96-9AF3-4416-AEC7-076262EF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83F9-258A-4104-8A5F-F0513E38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6A6F-0B2D-4479-9B17-2AF5337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477-1152-43FE-A2DA-1E40B3FD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F61C-4DE2-4356-8BF3-ACB35005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C7E1-1EB9-496D-8326-284425D0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6C0D-3C0C-44CC-B1A5-5AE5D96D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0045-D24C-4196-8106-675869C1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E25A-DA5D-4AE9-8445-7B00935E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B00-62B2-40C9-92D7-1852043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3BC-2001-41D9-A4AB-735D7259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9F3-A949-4693-96A2-5AEBEDBA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6B2-9B74-4B4B-A846-92B968C0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E7D-6D2C-459A-9E17-9580EEEE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220-5778-4DC0-87D7-A8EEA45F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72A-94C0-4121-838F-AF656A0A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560" y="5805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2DC9-F4CC-46E3-8F72-BB5A6576728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78920" y="5660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32720" y="5660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02D0-84D9-43DF-9D37-D3C2284E1435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285640"/>
            <a:ext cx="72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Laki eläinten hyvinvoinnista</a:t>
            </a:r>
            <a:br>
              <a:rPr sz="3600"/>
            </a:br>
            <a:br>
              <a:rPr sz="3600"/>
            </a:b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Lausuntokierroksen palaute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920" y="450864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oimittajatilaisuus 15.8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rityisasiantuntija Tiina Pullola, maa- ja metsätalousministeri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Maakunnan nimeäminen valvontaviranomaise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ikallisia valvontaviranomaisia olisivat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maakunta,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liisi ja rajaeläinlääkäri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nykyisin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aluehallintovirasto, kunnaneläinlääkäri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poliisi, terveystarkastaja, rajaeläinlääkä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nantajilla huoli siitä, että eläinlääkärit valvonnassa korvataan muulla henkilöstöll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ABC0-9947-4147-86F2-044A60CEAF17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Koirien ja kissojen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pakollinen tunnistusmerkintä ja rekisterö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issa toivottiin koirien ja kissojen pakollista tunnistusmerkintää ja rekisteröinti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öytöeläinten nopeampi palautuminen omistajill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stuullinen eläintenp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issojen arvostuksen lisää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elpottaisi valvontaa (mm. eläintenpitokiellot, hylkääminen, pentutehtai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läinten alkuperän selvittäminen helpottu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489E-13FE-428B-9715-CBCB446DBB10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Kuva 1" descr=""/>
          <p:cNvPicPr/>
          <p:nvPr/>
        </p:nvPicPr>
        <p:blipFill>
          <a:blip r:embed="rId7"/>
          <a:stretch/>
        </p:blipFill>
        <p:spPr>
          <a:xfrm>
            <a:off x="7380360" y="1965240"/>
            <a:ext cx="129204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Eläinsuojelulain kokonaisuudi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9720" y="1700280"/>
            <a:ext cx="7772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oimassa oleva laki vuodelta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Valmistelu aloitettiin ministeriössä 2010, työryhmä ja ohjausryhmä aloittivat työnsä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ähtökohdat: perspektiivi seuraavat 20-30 vuotta, eläinten hyvinvointi suojelun sijaan, uusin tutkimusti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Selvityksiä teetetty 13 k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E-luonnos oli lausuntokierroksella alkuvuod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608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toja määräaikaan mennessä lähes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6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5141-C25F-4075-8278-54ECD4635DEB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tokierroksen an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9720" y="1700280"/>
            <a:ext cx="7772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iitost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mm. seuraavista seiko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käyttäytymistarpeet lain keskiö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tieläintuotannon kannattavuus otettu huomi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vunlievitystä edellytetää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jalostuksen tarkempi sään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06F0-1439-448F-BE8B-2FEB21562632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Kuva 2" descr=""/>
          <p:cNvPicPr/>
          <p:nvPr/>
        </p:nvPicPr>
        <p:blipFill>
          <a:blip r:embed="rId2"/>
          <a:stretch/>
        </p:blipFill>
        <p:spPr>
          <a:xfrm>
            <a:off x="6588000" y="3932280"/>
            <a:ext cx="1897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tokierroksen an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9720" y="1700280"/>
            <a:ext cx="7772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ritiikkiä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mm. seuraavista seikois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arsinavetat ja porsitushäkit: ei kiel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atkuva vedensaanti puut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urkistarhaus jatk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irien ja kissojen tunnistusmerkintä ja rekisteröinti puut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5FCF-A84B-47CA-AF77-993BBBFEBDFA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parsinavetat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Lypsylehmien ja hiehojen pitoa kytkettynä ei kiellettä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uiden kuin lypsylehmien ja –hiehojen pito kytkettynä kiellettäisiin 5 vuoden siirtymäaj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Investointitukiasetus on muutettu 3/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ukea ei myönnetä enää 2019 alus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usien parsinavetoiden rakentami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lemassa olevien laajentami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D4AC-F19F-4F5C-86E8-A697FD4BDFBE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:\_A_ Kuvat\nauta01.jpg"/>
          <p:cNvPicPr/>
          <p:nvPr/>
        </p:nvPicPr>
        <p:blipFill>
          <a:blip r:embed="rId4"/>
          <a:stretch/>
        </p:blipFill>
        <p:spPr>
          <a:xfrm>
            <a:off x="6613560" y="3297240"/>
            <a:ext cx="136044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arsinavetat tulisi kieltää siirtymäajalla / uusien parsinavetoiden rakentaminen tulisi kieltä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yös joitain lausuntoja, jossa ehdotusta kannate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issa toivottiin säännöllistä jaloittelua (päivittäin/ympäri vuoden) lehmille ja hiehoille, joita pidetään parteen kytkettyn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55E8-4ED8-41E0-A2E5-7CD1DFF54141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Kuva 1" descr=""/>
          <p:cNvPicPr/>
          <p:nvPr/>
        </p:nvPicPr>
        <p:blipFill>
          <a:blip r:embed="rId3"/>
          <a:stretch/>
        </p:blipFill>
        <p:spPr>
          <a:xfrm>
            <a:off x="3633840" y="4352760"/>
            <a:ext cx="2120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tiineytyshä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-353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Tiineytyshäkkien käyttö kiellettäis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uusissa ja peruskorjattavissa sikaloissa kielto lain tullessa voim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lemassa olevissa sikaloissa kiellettäisiin 15 v siirtymäaj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iineytyshäkissä pito 4 vrk sallittaisiin jatkossa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Lausunnoissa kannatettiin tiineytyshäkeistä luopum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4 vrk kiinnipitomahdollisuutta ei kannatet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iheuttaa alkiokuolemia, tappeluita, kun emakot takaisin ryhm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6480" indent="-354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istettava kokonaan / pidennettävä 10 vuorokaute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C77D-76E0-47C0-B23F-8C85F7745BFA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porsitushä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orsitushäkkejä ei kiellettä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oivottiin, että porsitushäkit kielletään siirtymäaj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yös joitain lausuntoja, joissa kannatettiin ehdot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5C45-CE4E-4655-96E2-6E95BD2A0341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H:\_A_ Kuvat\sika02.jpg"/>
          <p:cNvPicPr/>
          <p:nvPr/>
        </p:nvPicPr>
        <p:blipFill>
          <a:blip r:embed="rId4"/>
          <a:stretch/>
        </p:blipFill>
        <p:spPr>
          <a:xfrm>
            <a:off x="6012000" y="393372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6200" y="3013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Lausunnoilla ollut luonnos: vedensa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6200" y="1699920"/>
            <a:ext cx="77724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Hoidossa olevien eläinten ruokinnassa ja juotossa on otettava huomioon kunkin eläimen fysiologiset tarpeet ja varmistettava, että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jokainen eläin saa sopivassa määrin hyvälaatuista ravintoa ja vettä tai muuta juotava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hdotusta vastustettiin, toivottiin jatkuvaa vedensaan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edensaanti keskeinen tekijä hyvinvoinn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ysiologian lisäksi myös pitkittynyt janontunne otettava huomi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lvonnassa vaikea todentaa riittävä vedensa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yös joitain lausuntoja, joissa ehdotusta kannatett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aikeuttaisi mm. talviaikaista tarhausta, vasikoiden ulkokasvat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73C5-887F-4356-B26C-CCAAB484667E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8:55:37Z</dcterms:created>
  <dc:creator>pop</dc:creator>
  <dc:description/>
  <dc:language>en-US</dc:language>
  <cp:lastModifiedBy>Pullola Tiina (MMM)</cp:lastModifiedBy>
  <cp:lastPrinted>2018-08-07T12:22:40Z</cp:lastPrinted>
  <dcterms:modified xsi:type="dcterms:W3CDTF">2018-08-14T11:54:56Z</dcterms:modified>
  <cp:revision>11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OCS AutoSave">
    <vt:lpwstr/>
  </property>
</Properties>
</file>