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C53-74EA-4006-B21A-BB8F7262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018-3435-40FF-B730-BF76AF38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085-F1B7-4900-8E81-E66EAEB1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01D3-DE1E-438C-88C4-A88BE9E7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3C77-7D39-438E-B21D-3074DC65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AA2C-043B-461D-AD97-4CCE7B0B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E59F-79BE-46F0-B630-F8681E14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1F82-80E5-4339-AAF1-DC76530D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4A06-E01F-467A-AC99-EB8CDEA7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EA8F-2B79-4A0D-9C04-4814A3D9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9D85-6F1D-4409-847A-CB9092A1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F4E-9902-45C2-9879-74F4C1AF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0906-AD88-4E17-9EDC-692CB9D6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E717-F460-49F2-9337-50B03745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9CF2-4CA5-40F5-90F9-46247C58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5534-42F8-4E05-9EBE-27F7BD38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AB13-C520-406F-BA08-8E75D04D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F9C-8B68-4B87-BCAE-DD5E078B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BF9-3E12-4F58-A177-A223C864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1A0-085D-416A-90BD-AE445633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B46-CDBE-4560-BFB1-4EE07AB1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B84C-9698-4368-A52F-F7D682EC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475-D65E-4B82-9EC6-182F28FF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50F9-B55E-4F3C-92CD-6A3719B6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560" y="5805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uotsalo 28.11.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11.-12.9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18EE-3000-4922-A43C-7AA048ED1AB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235080" y="-1429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0" y="5148360"/>
            <a:ext cx="9144000" cy="17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235080" y="-1429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5148360"/>
            <a:ext cx="9144000" cy="170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78920" y="5660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uotsalo 28.11.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11.-12.9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32720" y="5660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B03A-BB46-4381-8FC7-642BF6495EC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285640"/>
            <a:ext cx="72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Laki eläinten hyvinvoinnista</a:t>
            </a:r>
            <a:br>
              <a:rPr sz="3600"/>
            </a:br>
            <a:br>
              <a:rPr sz="3600"/>
            </a:b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Lausuntokierroksen palaute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0920" y="450864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oimittajatilaisuus 15.8.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rityisasiantuntija Tiina Pullola, maa- ja metsätalousministeri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noilla ollut luonnos: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aakunnan nimeäminen valvontaviranomaise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324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ikallisia valvontaviranomaisia olisivat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maakunta,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liisi ja rajaeläinlääkäri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(nykyisin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aluehallintovirasto, kunnaneläinlääkäri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 poliisi, terveystarkastaja, rajaeläinlääkä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nonantajilla huoli siitä, että eläinlääkärit valvonnassa korvataan muulla henkilöstöll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DBC1-63E4-43FA-ADA3-EE4427D34CF2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oirien ja kissojen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kollinen tunnistusmerkintä ja rekisterö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324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noissa toivottiin koirien ja kissojen pakollista tunnistusmerkintää ja rekisteröinti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öytöeläinten nopeampi palautuminen omistajill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stuullinen eläintenp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issojen arvostuksen lisää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elpottaisi valvontaa (mm. eläintenpitokiellot, hylkääminen, pentutehtai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läinten alkuperän selvittäminen helpottu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BF4C-F301-4341-9C4E-24686B007021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Kuva 1" descr=""/>
          <p:cNvPicPr/>
          <p:nvPr/>
        </p:nvPicPr>
        <p:blipFill>
          <a:blip r:embed="rId7"/>
          <a:stretch/>
        </p:blipFill>
        <p:spPr>
          <a:xfrm>
            <a:off x="7380360" y="1965240"/>
            <a:ext cx="129204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läinsuojelulain kokonaisuudis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9720" y="1700280"/>
            <a:ext cx="77724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oimassa oleva laki vuodelta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lmistelu aloitettiin ministeriössä 2010, työryhmä ja ohjausryhmä aloittivat työnsä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ähtökohdat: perspektiivi seuraavat 20-30 vuotta, eläinten hyvinvointi suojelun sijaan, uusin tutkimusti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elvityksiä teetetty 13 k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E-luonnos oli lausuntokierroksella alkuvuod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608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toja määräaikaan mennessä lähes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4097-2C20-4B9A-B9C9-F1E682A7B033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tokierroksen an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39720" y="1700280"/>
            <a:ext cx="77724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iitosta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mm. seuraavista seikois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käyttäytymistarpeet lain keskiös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otieläintuotannon kannattavuus otettu huomi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vunlievitystä edellytetää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jalostuksen tarkempi sään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496C-C025-482E-B963-B51F2B16D9D0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Kuva 2" descr=""/>
          <p:cNvPicPr/>
          <p:nvPr/>
        </p:nvPicPr>
        <p:blipFill>
          <a:blip r:embed="rId2"/>
          <a:stretch/>
        </p:blipFill>
        <p:spPr>
          <a:xfrm>
            <a:off x="6588000" y="3932280"/>
            <a:ext cx="18972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tokierroksen an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9720" y="1700280"/>
            <a:ext cx="77724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ritiikki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mm. seuraavista seikois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sinavetat ja porsitushäkit: ei kiel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tkuva vedensaanti puutt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rkistarhaus jatk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oirien ja kissojen tunnistusmerkintä ja rekisteröinti puutt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5E56-0DB6-46E2-B410-EAE446BE8A2B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noilla ollut luonnos: parsinavetat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Lypsylehmien ja hiehojen pitoa kytkettynä ei kiellettä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uiden kuin lypsylehmien ja –hiehojen pito kytkettynä kiellettäisiin 5 vuoden siirtymäaj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nvestointitukiasetus on muutettu 3/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kea ei myönnetä enää 2019 alu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uusien parsinavetoiden rakentami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lemassa olevien laajentami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1E9D-D93D-4BA4-9960-F96254911E40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:\_A_ Kuvat\nauta01.jpg"/>
          <p:cNvPicPr/>
          <p:nvPr/>
        </p:nvPicPr>
        <p:blipFill>
          <a:blip r:embed="rId4"/>
          <a:stretch/>
        </p:blipFill>
        <p:spPr>
          <a:xfrm>
            <a:off x="6613560" y="3297240"/>
            <a:ext cx="136044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n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rsinavetat tulisi kieltää siirtymäajalla / uusien parsinavetoiden rakentaminen tulisi kieltä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yös joitain lausuntoja, jossa ehdotusta kannate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noissa toivottiin säännöllistä jaloittelua (päivittäin/ympäri vuoden) lehmille ja hiehoille, joita pidetään parteen kytkettyn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9E6A-5B11-4488-92BC-A5326B7F309D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Kuva 1" descr=""/>
          <p:cNvPicPr/>
          <p:nvPr/>
        </p:nvPicPr>
        <p:blipFill>
          <a:blip r:embed="rId3"/>
          <a:stretch/>
        </p:blipFill>
        <p:spPr>
          <a:xfrm>
            <a:off x="3633840" y="4352760"/>
            <a:ext cx="21207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noilla ollut luonnos: tiineytyshä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-353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Tiineytyshäkkien käyttö kiellettäisi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48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usissa ja peruskorjattavissa sikaloissa kielto lain tullessa voim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48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lemassa olevissa sikaloissa kiellettäisiin 15 v siirtymäaj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48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ineytyshäkissä pito 4 vrk sallittaisiin jatkossa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noissa kannatettiin tiineytyshäkeistä luopum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4 vrk kiinnipitomahdollisuutta ei kannatet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48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iheuttaa alkiokuolemia, tappeluita, kun emakot takaisin ryhmää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48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istettava kokonaan / pidennettävä 10 vuorokaut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DBF0-BE18-4F07-BDA2-4D844A4CD32A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noilla ollut luonnos: porsitushä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rsitushäkkejä ei kiellettä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ivottiin, että porsitushäkit kielletään siirtymäaj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yös joitain lausuntoja, joissa kannatettiin ehdot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5CBD-1D39-4769-BCD2-DD4CF8C43DF5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H:\_A_ Kuvat\sika02.jpg"/>
          <p:cNvPicPr/>
          <p:nvPr/>
        </p:nvPicPr>
        <p:blipFill>
          <a:blip r:embed="rId4"/>
          <a:stretch/>
        </p:blipFill>
        <p:spPr>
          <a:xfrm>
            <a:off x="6012000" y="3933720"/>
            <a:ext cx="2303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6200" y="3013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noilla ollut luonnos: vedensa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6200" y="1699920"/>
            <a:ext cx="77724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oidossa olevien eläinten ruokinnassa ja juotossa on otettava huomioon kunkin eläimen fysiologiset tarpeet ja varmistettava, että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jokainen eläin saa sopivassa määrin hyvälaatuista ravintoa ja vettä tai muuta juotava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hdotusta vastustettiin, toivottiin jatkuvaa vedensaan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edensaanti keskeinen tekijä hyvinvoinn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ysiologian lisäksi myös pitkittynyt janontunne otettava huomi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lvonnassa vaikea todentaa riittävä vedensa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yös joitain lausuntoja, joissa ehdotusta kannatetti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ikeuttaisi mm. talviaikaista tarhausta, vasikoiden ulkokasvatu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25F8-D375-4777-B237-F17218EA473B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8:55:37Z</dcterms:created>
  <dc:creator>pop</dc:creator>
  <dc:description/>
  <dc:language>en-US</dc:language>
  <cp:lastModifiedBy>Pullola Tiina (MMM)</cp:lastModifiedBy>
  <cp:lastPrinted>2018-08-07T12:22:40Z</cp:lastPrinted>
  <dcterms:modified xsi:type="dcterms:W3CDTF">2018-08-14T11:54:56Z</dcterms:modified>
  <cp:revision>11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DOCS AutoSave">
    <vt:lpwstr/>
  </property>
</Properties>
</file>