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ED3-5BAD-4332-A897-72D397F9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896E-650B-4682-9593-21BA8A4E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961-5AAE-49EE-B4AB-A843BF14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3E7-E402-4FFE-A526-CBDA01BA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2770-EB09-4962-ACE5-1AA672C6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A2E4-9C22-4676-B59A-57CC9FC6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078E-0631-4125-B2C4-B5284767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5AA1-4D89-4D7C-BBA6-5E1EB5C9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1F55-DA96-42FF-A00C-AAEAB763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6E51-B019-4737-B02F-BAB2396E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7E7C-005A-47DD-AB62-F0EB5A18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1E7-81CB-4AAB-8F5C-50FAE743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1F10-68BE-40CF-840D-FCE2665C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9B50-7259-447F-B61D-70DBCF15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222C-5A06-4265-940F-62306C83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6C21-7C7E-4949-8BFE-9E249D09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CB10-F245-4B82-A4C9-7D5B6B8C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BF7-0EB4-413B-B57F-3F4BFA4E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199-E374-4062-B4DF-C72BC256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8C3-F41E-4376-B59D-2061379E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166-CF93-4A31-BF1D-68CF2A9E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060-B53C-4097-9771-37D92987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718-6FF8-421B-A993-6C65E007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B8F5-D400-4535-9F97-24108561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0560" y="5805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ACA5-31F0-4C0B-8D16-F756F90C97B4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235080" y="-1429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5148360"/>
            <a:ext cx="9144000" cy="170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78920" y="5660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uotsalo 28.11.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11.-12.9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32720" y="5660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B760-9899-40DF-BFE1-BF52166343B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285640"/>
            <a:ext cx="72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Luonnos laiksi eläinten hyvinvoinnist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920" y="450864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Eläinlääkintöylitarkastaja Tiina Pullola, Maa- ja metsätalousministeri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Tiineytyshäkit, porsitushä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iineytyshäkkien käyttö kiellettä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ssa ja peruskorjattavissa sikaloissa kielto tulisi voimaan h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lemassa olevissa sikaloissa luopuminen 15 vuoden siirtymäaj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rsitushäkkejä ei kiellettä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27B4-B2DB-4751-90E2-7731F423228C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:\_A_ Kuvat\sika02.jpg"/>
          <p:cNvPicPr/>
          <p:nvPr/>
        </p:nvPicPr>
        <p:blipFill>
          <a:blip r:embed="rId3"/>
          <a:stretch/>
        </p:blipFill>
        <p:spPr>
          <a:xfrm>
            <a:off x="6132600" y="3936960"/>
            <a:ext cx="230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Hevospilttu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vosten pito pilttuussa karsinan sijaan kiellettäisiin viiden vuoden siirtymäaj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BBC4-9947-4F1D-BFC8-33467384E992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H:\_A_ Kuvat\hevonen01_p.jpg"/>
          <p:cNvPicPr/>
          <p:nvPr/>
        </p:nvPicPr>
        <p:blipFill>
          <a:blip r:embed="rId2"/>
          <a:stretch/>
        </p:blipFill>
        <p:spPr>
          <a:xfrm>
            <a:off x="6516720" y="2998800"/>
            <a:ext cx="17985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ivuliaat toimenpi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eikkaus tai muu kipua tai kärsimystä aiheuttava toimenp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-36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ivunlievitys pakolliseksi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, ellei toimenpiteestä aiheutuva kipu ole lievää ja hetkellistä tai jos toimenpide ei siedä viivyty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-369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vunlievityksen muodosta ja toimenpiteen tekijästä säädettäisiin asetustasolla (eläinlääkäri, muu pätevä henkil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7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846D-C76C-4CB6-858C-7ABA608974AD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edensa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699920"/>
            <a:ext cx="77724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i muutosta nykyis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oidossa olevien eläinten ruokinnassa ja juotossa on otettava huomioon kunkin eläimen fysiologiset tarpeet ja varmistettava, että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jokainen eläin saa sopivassa määrin hyvälaatuista ravintoa ja vettä tai muuta juotav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kennukset eläinlajikohtaisissa asetuksi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3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esim. tietyille eläinlajeille ja eläinryhmille jatkuva vedensa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15B1-AADF-4F9C-AFCF-622BFBD605E9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D:\Kuvia\Annecy&amp;Biel 234.JPG"/>
          <p:cNvPicPr/>
          <p:nvPr/>
        </p:nvPicPr>
        <p:blipFill>
          <a:blip r:embed="rId3"/>
          <a:stretch/>
        </p:blipFill>
        <p:spPr>
          <a:xfrm>
            <a:off x="6516720" y="731880"/>
            <a:ext cx="19209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ten pitäjän ja muun hoitajan pätevy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illa eläinten pitäjillä ja hoitajilla tulee olla eläinten hyvinvoinnin kannalta riittävä osa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mmattimaisesti tai muuten laajassa mitassa eläimiä pitäv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pätevyysvaatimuksesta tuotantoeläinten pitäjien ja hoitajien osalta säädetty jo huhtikuussa 20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aatimukset laajennettaisiin koskemaan myös muita kuin tuotantoeläinten pitäjiä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E6A4-87D4-4163-BDBB-A2592AD0434E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älineet, laitteet ja ain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uolellisuusvelvoite välineiden, laitteiden ja ain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almista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aahantuojille ja -vie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uljetta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kaupanpitäjille ja muille luovuttaji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aahantuonti, valmistus, luovutus, käyttö ja hallussapito kiellet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mm. piikkipannat ja sähköpann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6EA8-7198-49D4-A256-3062B48138A6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:\_A_ Kuvat\piikkipanta.jpg"/>
          <p:cNvPicPr/>
          <p:nvPr/>
        </p:nvPicPr>
        <p:blipFill>
          <a:blip r:embed="rId3"/>
          <a:stretch/>
        </p:blipFill>
        <p:spPr>
          <a:xfrm>
            <a:off x="6875640" y="2492280"/>
            <a:ext cx="14079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jalostus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jalostuksella tulee pyrkiä elinvoimaisten, toimintakykyisten ja terveiden eläinten tuotta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jalostukseen liittyvien vaatimusten selkeyttäminen laissa, viranomaisille paremmat mahdollisuudet puuttua ääritapauk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BD70-C37D-4FD5-8AEF-0CB05770E260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H:\_A_ Kuvat\sharpei.jpg"/>
          <p:cNvPicPr/>
          <p:nvPr/>
        </p:nvPicPr>
        <p:blipFill>
          <a:blip r:embed="rId3"/>
          <a:stretch/>
        </p:blipFill>
        <p:spPr>
          <a:xfrm>
            <a:off x="6732720" y="228600"/>
            <a:ext cx="19746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jalostus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ielto laki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erkittävää hyvinvointihaittaa jälkeläisille aiheuttava jalostusyhdistelm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, joka ei pysty lisääntymään luonnoll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, jolle lisääntymisestä aiheutuu merkittävää hyvinvointihait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isäkkäiden hallitsematon lisääntyminen estettäv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97D3-BD92-4818-890F-F91AF238C23D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uonnonvaraiset 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ellettyä olisi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elkärankaisten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eläinten elätettäväksi ottaminen luonn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nsalaisella olisi oikeus ottaa loukkaantunut tai muutoin avuton eläin haltuunsa vain ensiapua tai hoitoon toimittamista v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0FCC-A94D-4310-82B9-7A4A94117EE0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:\Kuvia\Annecy&amp;Biel 189.JPG"/>
          <p:cNvPicPr/>
          <p:nvPr/>
        </p:nvPicPr>
        <p:blipFill>
          <a:blip r:embed="rId3"/>
          <a:stretch/>
        </p:blipFill>
        <p:spPr>
          <a:xfrm>
            <a:off x="6443640" y="4218120"/>
            <a:ext cx="19987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uonnonvaraiset 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kunnan eläinlääkärin vastaanotolle tuotujen loukkaantuneiden luonnonvaraisten lopetus järjestettäv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onnonvaraisten eläinten pidempiaikainen hoito ilmoituksenvaraiseksi toiminnaksi, hoidetut eläimet joko takaisin luontoon tai eläintarh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AA1F-7839-4A45-8D53-BA61AEEDBE28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Uudistuksen valmist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- ja metsätalousministeriön valmisteluryhmä aloitti työnsä kesäkuussa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yöryhmän toimikausi 24.9.2012 - 31.12.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jausryhmän toimikausi 24.9.2012 - 31.12.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kamiesvalmistelu ja kaksi ohjausryhmän kokousta v. 2016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E088-AC2C-4D18-A31B-BD7CABEFAF33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öytö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öytöeläinten kuljetus osaksi maakunnan järjestämää löytöeläinten hoi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öytöeläinten säilytysaika lyhenisi 15 päivästä 10 päivää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14CB-7879-491B-9CA3-D299E23E62BA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H:\KUVIA\Pikkukuva Kissa.jpg"/>
          <p:cNvPicPr/>
          <p:nvPr/>
        </p:nvPicPr>
        <p:blipFill>
          <a:blip r:embed="rId3"/>
          <a:stretch/>
        </p:blipFill>
        <p:spPr>
          <a:xfrm>
            <a:off x="3998880" y="4078440"/>
            <a:ext cx="12859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öytöeläi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öytöeläinhoitolan pitäjälle velvollisuus tarkastaa tunnistusmerkintä ja pyrkiä löytämään omist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nsiapu ja muu kohtuullinen sairauden ho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kunnille tilastointivelvollisuus löytöeläim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D767-7D54-46AC-AAC4-1B3C7215322D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D:\Kuvia\Picture 029.jpg"/>
          <p:cNvPicPr/>
          <p:nvPr/>
        </p:nvPicPr>
        <p:blipFill>
          <a:blip r:embed="rId4"/>
          <a:stretch/>
        </p:blipFill>
        <p:spPr>
          <a:xfrm>
            <a:off x="3852720" y="4724280"/>
            <a:ext cx="16527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uvan- ja ilmoituksenvarainen eläinten pito ja eläinkilpail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2060640"/>
            <a:ext cx="81342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otieläinpihojen (= ei luonnonvaraisia eläinlajeja) luvanvaraisuudesta luovutta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iski”eläinkilpailujen järjestäminen ilmoituksenvaraiseksi toiminna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lpailueläinlääkäri osaksi järjestäjän omavalvon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ärjestäjälle kirjanpitovelvollisuus olosuhteista ja tapahtu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4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F107-212B-49CD-B9D0-F1E2ED1CDFAC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:\_A_ Kuvat\elkoriver.jpg"/>
          <p:cNvPicPr/>
          <p:nvPr/>
        </p:nvPicPr>
        <p:blipFill>
          <a:blip r:embed="rId3"/>
          <a:stretch/>
        </p:blipFill>
        <p:spPr>
          <a:xfrm>
            <a:off x="6156360" y="2779560"/>
            <a:ext cx="22320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Eläinten lope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aikki teurastettavat eläimet on tainnutettava ennen verenlaskun aloittamist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, myö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skonnollisista syistä noudatettava erityinen teurastust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maan käyttöön teurastettava siipika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EA95-18D4-4323-8073-4A6D1DA8D48A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:\_A_ Kuvat\lammas01.jpg"/>
          <p:cNvPicPr/>
          <p:nvPr/>
        </p:nvPicPr>
        <p:blipFill>
          <a:blip r:embed="rId2"/>
          <a:stretch/>
        </p:blipFill>
        <p:spPr>
          <a:xfrm>
            <a:off x="7093080" y="4172040"/>
            <a:ext cx="1377720" cy="1536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H:\_A_ Kuvat\siipikarja_p.jpg"/>
          <p:cNvPicPr/>
          <p:nvPr/>
        </p:nvPicPr>
        <p:blipFill>
          <a:blip r:embed="rId3"/>
          <a:stretch/>
        </p:blipFill>
        <p:spPr>
          <a:xfrm>
            <a:off x="5479920" y="4486320"/>
            <a:ext cx="16034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alvonta ja viranomai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324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anomai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- ja metsätalousministeriö, Elintarviketurvallisuusvir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akunta, poliisi, rajaeläinlääkä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anomaisen velvollisuus ryhtyä toimenpite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eho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allinnolliset pakkokei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C0A3-38F5-4E48-AEE0-849ABB478D02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D:\Kuvia\Mynchen_Ortisei_2014 2014-06-20 133.JPG"/>
          <p:cNvPicPr/>
          <p:nvPr/>
        </p:nvPicPr>
        <p:blipFill>
          <a:blip r:embed="rId3"/>
          <a:stretch/>
        </p:blipFill>
        <p:spPr>
          <a:xfrm>
            <a:off x="6229440" y="2133720"/>
            <a:ext cx="22082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Valvonta ja viranomai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iantuntijoiden ja avustajien käyt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pitäjän velvollisuus avustaa viranoma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iranomaisen tiedonsaantioikeudet, ilmoitus- ja tiedonantovelvollisuudesta tarkemmin sää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lmoitusvelvollisuus poliis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960" indent="-3621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Arial"/>
              </a:rPr>
              <a:t>viranomaisen harkintavalta laissa säädetyin edellytyks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840D-F562-4E47-85E7-D405DF3B6C98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c00000"/>
                </a:solidFill>
                <a:latin typeface="Arial"/>
              </a:rPr>
              <a:t>Kiito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6E63-B274-4700-8976-34D856EC4915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H:\_A_ Kuvat\ritva.jpg"/>
          <p:cNvPicPr/>
          <p:nvPr/>
        </p:nvPicPr>
        <p:blipFill>
          <a:blip r:embed="rId1"/>
          <a:stretch/>
        </p:blipFill>
        <p:spPr>
          <a:xfrm>
            <a:off x="2843280" y="2098800"/>
            <a:ext cx="36003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Uudistuksen aikata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hdotettu laki korvaisi eläinsuojelulain (247/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E laiksi eläinten hyvinvoinnista lausuntokierroksella, joka päättyy 28.2. (Lausuntopalvelu.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duskuntaan kevätkaudella 2018, voimaan vuonna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27E4-9E66-40F7-B5E9-4737A66A7330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D:\Kuvia\IMG_4283.JPG"/>
          <p:cNvPicPr/>
          <p:nvPr/>
        </p:nvPicPr>
        <p:blipFill>
          <a:blip r:embed="rId4"/>
          <a:stretch/>
        </p:blipFill>
        <p:spPr>
          <a:xfrm>
            <a:off x="6802560" y="2938320"/>
            <a:ext cx="14079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Uudistuksen tavoit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in saattaminen perustuslain vaatimusten mukaise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elkeän laintasoisen sääntelyn luo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U-lainsäädännön täytäntöönpanon varmis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hyvinvoinnin paran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suojeluvalvonnan tehos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ykyisen hallitusohjelman vaiku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6318-868F-4FC8-8D01-6A8C8CE60390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Lain tarkoi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hyvinvoinnin edist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suojeleminen parhaalla mahdollisella tavalla niiden hyvinvoinnille aiheutuvalta hait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kunnioituksen ja hyvän kohtelun lisä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ki koskee kaikkia eläimi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791B-4693-413F-AC86-9CDD5C0FF112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:\KUVIA\Picture 046.jpg"/>
          <p:cNvPicPr/>
          <p:nvPr/>
        </p:nvPicPr>
        <p:blipFill>
          <a:blip r:embed="rId5"/>
          <a:stretch/>
        </p:blipFill>
        <p:spPr>
          <a:xfrm>
            <a:off x="6662880" y="4511520"/>
            <a:ext cx="174924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Yleiset periaat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hyvä kohtelu eläimiä kunnioitta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rpeettoman kivun ja kärsimyksen aiheuttamisen kie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elto vaarantaa tarpeettomasti eläinten hyvinvoi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hoidotta jättämisen ja hylkäämisen kie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A928-19A3-4805-B1FB-FAA829558E1F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Yleiset periaat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airaan tai vahingoittuneen eläimen auttamin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stuu eläinten hyvinvoin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ikkien vast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äinten omistaja tai pitäj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i yksin alle 16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8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vontaviranoma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F551-45F4-47D8-AE0C-4432B0E2CCBE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D:\Kuvia\IMG_3445.JPG"/>
          <p:cNvPicPr/>
          <p:nvPr/>
        </p:nvPicPr>
        <p:blipFill>
          <a:blip r:embed="rId3"/>
          <a:stretch/>
        </p:blipFill>
        <p:spPr>
          <a:xfrm>
            <a:off x="6808680" y="3571920"/>
            <a:ext cx="16401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Positiivili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= luettelo eläinlajeista, joita voidaan pitää tiettyyn tarkoituk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ykyisin: sirkuseläimet, tuotantotarkoituksiin tarhattavat luonnonvaraiset eläi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hdotus: lakiin nisäkäs- ja lintulajit, joita voidaan pitää tuotantoeläiminä sekä sirkuseläiminä pidettävät la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asetukseen: lajit, joita voidaan pitää seura- ja harrastuseläimin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6F80-EEB6-4DA8-B2C2-A858CB0860C3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H:\_A_ Kuvat\papukaija.jpg"/>
          <p:cNvPicPr/>
          <p:nvPr/>
        </p:nvPicPr>
        <p:blipFill>
          <a:blip r:embed="rId4"/>
          <a:stretch/>
        </p:blipFill>
        <p:spPr>
          <a:xfrm>
            <a:off x="1547640" y="260280"/>
            <a:ext cx="1225800" cy="162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:\_A_ Kuvat\mangusti.jpg"/>
          <p:cNvPicPr/>
          <p:nvPr/>
        </p:nvPicPr>
        <p:blipFill>
          <a:blip r:embed="rId5"/>
          <a:stretch/>
        </p:blipFill>
        <p:spPr>
          <a:xfrm>
            <a:off x="6541920" y="268200"/>
            <a:ext cx="108612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Parsinavetat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lypsylehmien ja hiehojen pitoa parsinavetoissa ei kiellettäisi,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rakennekehitys johtaa parsinavetoista luopu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poikkeus: muiden nautojen kytkettynä pito kiellettäisiin viiden vuoden siirtymäaj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investointitukea ei enää myönnettä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7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uusien parsinavetoiden rakenta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3280" indent="-377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lemassa olevien laajentami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ian numeron paikkamerkki 5"/>
          <p:cNvSpPr/>
          <p:nvPr/>
        </p:nvSpPr>
        <p:spPr>
          <a:xfrm>
            <a:off x="7020000" y="5734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3635-D22E-49D4-B730-3BB03C49F77F}" type="slidenum">
              <a:rPr b="0" lang="fi-FI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:\_A_ Kuvat\nauta01.jpg"/>
          <p:cNvPicPr/>
          <p:nvPr/>
        </p:nvPicPr>
        <p:blipFill>
          <a:blip r:embed="rId4"/>
          <a:stretch/>
        </p:blipFill>
        <p:spPr>
          <a:xfrm>
            <a:off x="7308720" y="3718080"/>
            <a:ext cx="12988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8:55:37Z</dcterms:created>
  <dc:creator>pop</dc:creator>
  <dc:description/>
  <dc:language>en-US</dc:language>
  <cp:lastModifiedBy>pullolti</cp:lastModifiedBy>
  <cp:lastPrinted>2017-11-21T19:39:10Z</cp:lastPrinted>
  <dcterms:modified xsi:type="dcterms:W3CDTF">2018-02-08T13:06:54Z</dcterms:modified>
  <cp:revision>1178</cp:revision>
  <dc:subject/>
  <dc:title>PowerPoint Presentation</dc:title>
</cp:coreProperties>
</file>