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961-2284-4423-A281-7D039D45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E1C-395E-4BE7-AA92-DDAB2F6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DBF-D6CE-4228-B7DB-0A96ABBF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B1C-FD1E-4694-AD02-C4FA9278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CFCA-FDFB-4843-9668-77C1B1D6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E74-8282-4854-84C1-6771067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2EE8-3ED7-4302-8CDA-F9A740F8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1FE0-BB87-417E-95DF-3A8465D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43AC-F036-4E26-8553-2FF1C27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94A2-A9CD-466A-84C4-42BDB456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F68-19AF-49BC-A189-6D7DBEE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26-0D20-4732-BFF8-7F60FAA1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BE5-56ED-427E-A40D-00757A9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FD6D-DBE5-4596-8248-DFEFD20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D811-23B0-4CBE-A425-535831C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6560-9D46-4542-A8DE-436B51F9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6B3-DD97-425F-B398-237398F0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1CD-5DAA-4534-ABEF-D2EA429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F27-9276-41EE-AA2F-781C6B8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DA0-0D4A-4397-9CAF-0DD4A67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F68-569F-4B19-B290-FBB2302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7AD-5F30-409A-B5F0-742CC64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188-14C9-441C-B3F5-A77902A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F19-9CFA-4CFA-BB56-712AE8E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808-D3CB-4986-B9AA-1DB633A2060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7FA-36DD-4A60-A512-B3AADCF553C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uonnos laiksi eläinten hyvinvoinnist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lääkintöylitarkastaja Tiina Pullola, Maa- ja metsätalousministeri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iineytyshäkit, porsitushä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ssa ja peruskorjattavissa sikaloissa kielto tulisi voimaan h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ssa sikaloissa luopuminen 15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94E-F01D-4F2B-9089-4AA877D541C5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:\_A_ Kuvat\sika02.jpg"/>
          <p:cNvPicPr/>
          <p:nvPr/>
        </p:nvPicPr>
        <p:blipFill>
          <a:blip r:embed="rId3"/>
          <a:stretch/>
        </p:blipFill>
        <p:spPr>
          <a:xfrm>
            <a:off x="6132600" y="393696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Hevospilttu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vosten pito pilttuussa karsinan sijaan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E52-DC56-4DB6-873A-F811846BDCB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:\_A_ Kuvat\hevonen01_p.jpg"/>
          <p:cNvPicPr/>
          <p:nvPr/>
        </p:nvPicPr>
        <p:blipFill>
          <a:blip r:embed="rId2"/>
          <a:stretch/>
        </p:blipFill>
        <p:spPr>
          <a:xfrm>
            <a:off x="6516720" y="2998800"/>
            <a:ext cx="17985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ivuliaat toimenpi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ikkaus tai muu kipua tai kärsimystä aiheuttava toimenp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vunlievitys pakolliseks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ellei toimenpiteestä aiheutuva kipu ole lievää ja hetkellistä tai jos toimenpide ei siedä viivyty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ksen muodosta ja toimenpiteen tekijästä säädettäisiin asetustasolla (eläinlääkäri, muu pätevä henkil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292-235D-4849-96A0-5106397C48E4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edensa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i muutosta nykyis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kennukset eläinlajikohtaisissa asetuks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sim. tietyille eläinlajeille ja eläinryhmille jatkuva vedensa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997-1B02-4ABE-841E-470B53B1130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:\Kuvia\Annecy&amp;Biel 234.JPG"/>
          <p:cNvPicPr/>
          <p:nvPr/>
        </p:nvPicPr>
        <p:blipFill>
          <a:blip r:embed="rId3"/>
          <a:stretch/>
        </p:blipFill>
        <p:spPr>
          <a:xfrm>
            <a:off x="6516720" y="731880"/>
            <a:ext cx="1920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pitäjän ja muun hoitajan pätevy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illa eläinten pitäjillä ja hoitajilla tulee olla eläinten hyvinvoinnin kannalta riittävä osa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mmattimaisesti tai muuten laajassa mitassa eläimiä pitä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tevyysvaatimuksesta tuotantoeläinten pitäjien ja hoitajien osalta säädetty jo huhtikuussa 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atimukset laajennettaisiin koskemaan myös muita kuin tuotantoeläinten pitäjiä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C7A7-85C0-4977-BDD3-D9F5B07A4019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älineet, laitteet ja ain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uolellisuusvelvoite välineiden, laitteiden ja ain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lmis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jille ja -vie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ulje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upanpitäjille ja muille luovu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nti, valmistus, luovutus, käyttö ja hallussapito kiellet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m. piikkipannat ja sähköpann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87C-127A-4F40-A189-916F68FD5E0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:\_A_ Kuvat\piikkipanta.jpg"/>
          <p:cNvPicPr/>
          <p:nvPr/>
        </p:nvPicPr>
        <p:blipFill>
          <a:blip r:embed="rId3"/>
          <a:stretch/>
        </p:blipFill>
        <p:spPr>
          <a:xfrm>
            <a:off x="6875640" y="249228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lla tulee pyrkiä elinvoimaisten, toimintakykyisten ja terveiden eläinten tuot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en liittyvien vaatimusten selkeyttäminen laissa, viranomaisille paremmat mahdollisuudet puuttua ääritapauk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667A-A339-4DCE-A8CE-785AEC950DF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:\_A_ Kuvat\sharpei.jpg"/>
          <p:cNvPicPr/>
          <p:nvPr/>
        </p:nvPicPr>
        <p:blipFill>
          <a:blip r:embed="rId3"/>
          <a:stretch/>
        </p:blipFill>
        <p:spPr>
          <a:xfrm>
            <a:off x="6732720" y="228600"/>
            <a:ext cx="197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elto laki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rkittävää hyvinvointihaittaa jälkeläisille aiheuttava jalostusyhdistelm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ka ei pysty lisääntymään luonnoll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lle lisääntymisestä aiheutuu merkittävää hyvinvointihait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isäkkäiden hallitsematon lisääntyminen estettäv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FF2-2C73-4EFF-A517-771EE9DA17F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lettyä olisi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elkärankaist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eläinten elätettäväksi ottaminen luonn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laisella olisi oikeus ottaa loukkaantunut tai muutoin avuton eläin haltuunsa vain ensiapua tai hoitoon toimittamist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825-9DC4-4772-AA62-DE4CA22ABB56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:\Kuvia\Annecy&amp;Biel 189.JPG"/>
          <p:cNvPicPr/>
          <p:nvPr/>
        </p:nvPicPr>
        <p:blipFill>
          <a:blip r:embed="rId3"/>
          <a:stretch/>
        </p:blipFill>
        <p:spPr>
          <a:xfrm>
            <a:off x="6443640" y="421812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an eläinlääkärin vastaanotolle tuotujen loukkaantuneiden luonnonvaraisten lopetus järjestettäv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nvaraisten eläinten pidempiaikainen hoito ilmoituksenvaraiseksi toiminnaksi, hoidetut eläimet joko takaisin luontoon tai eläintarh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22E-940D-446E-929A-F72829215776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valmist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n valmisteluryhmä aloitti työnsä kesäkuuss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ryhmän toimikausi 24.9.2012 - 31.12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ausryhmän toimikausi 24.9.2012 - 31.12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kamiesvalmistelu ja kaksi ohjausryhmän kokousta v.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6F7-4520-4982-9F8C-FD5EB6CF4E0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kuljetus osaksi maakunnan järjestämää löytöeläinten hoi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säilytysaika lyhenisi 15 päivästä 10 päivä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2DE-F187-482E-B523-F59D832A7B5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:\KUVIA\Pikkukuva Kissa.jpg"/>
          <p:cNvPicPr/>
          <p:nvPr/>
        </p:nvPicPr>
        <p:blipFill>
          <a:blip r:embed="rId3"/>
          <a:stretch/>
        </p:blipFill>
        <p:spPr>
          <a:xfrm>
            <a:off x="3998880" y="4078440"/>
            <a:ext cx="1285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hoitolan pitäjälle velvollisuus tarkastaa tunnistusmerkintä ja pyrkiä löytämään omis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siapu ja muu kohtuullinen sairauden h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ille tilastointivelvollisuus löytöeläi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F16-39D8-4F26-8A50-CE76CE01E7A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D:\Kuvia\Picture 029.jpg"/>
          <p:cNvPicPr/>
          <p:nvPr/>
        </p:nvPicPr>
        <p:blipFill>
          <a:blip r:embed="rId4"/>
          <a:stretch/>
        </p:blipFill>
        <p:spPr>
          <a:xfrm>
            <a:off x="3852720" y="4724280"/>
            <a:ext cx="1652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van- ja ilmoituksenvarainen eläinten pito ja eläinkilpai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81342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pihojen (= ei luonnonvaraisia eläinlajeja) luvanvaraisuudesta luovutta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iski”eläinkilpailujen järjestäminen ilmoituksenvaraiseksi toiminna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lpailueläinlääkäri osaksi järjestäjän omavalvo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älle kirjanpitovelvollisuus olosuhteista ja tapahtu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C547-8279-44CF-9620-85694F5699B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:\_A_ Kuvat\elkoriver.jpg"/>
          <p:cNvPicPr/>
          <p:nvPr/>
        </p:nvPicPr>
        <p:blipFill>
          <a:blip r:embed="rId3"/>
          <a:stretch/>
        </p:blipFill>
        <p:spPr>
          <a:xfrm>
            <a:off x="6156360" y="2779560"/>
            <a:ext cx="2232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lope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aikki teurastettavat eläimet on tainnutettava ennen verenlaskun aloittami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myö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skonnollisista syistä noudatettava erityinen teurastus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maan käyttöön teurastettava siipika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E97-427D-43A8-8E1B-8821A93A603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:\_A_ Kuvat\lammas01.jpg"/>
          <p:cNvPicPr/>
          <p:nvPr/>
        </p:nvPicPr>
        <p:blipFill>
          <a:blip r:embed="rId2"/>
          <a:stretch/>
        </p:blipFill>
        <p:spPr>
          <a:xfrm>
            <a:off x="7093080" y="4172040"/>
            <a:ext cx="1377720" cy="153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:\_A_ Kuvat\siipikarja_p.jpg"/>
          <p:cNvPicPr/>
          <p:nvPr/>
        </p:nvPicPr>
        <p:blipFill>
          <a:blip r:embed="rId3"/>
          <a:stretch/>
        </p:blipFill>
        <p:spPr>
          <a:xfrm>
            <a:off x="5479920" y="4486320"/>
            <a:ext cx="160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, Elintarviketurvallisuusvir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ta, poliisi, rajaeläinlääkä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velvollisuus ryhtyä toimenpit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llinnolliset pakkokei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80A-B5F4-4C28-8BB7-BF6954E8C0A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:\Kuvia\Mynchen_Ortisei_2014 2014-06-20 133.JPG"/>
          <p:cNvPicPr/>
          <p:nvPr/>
        </p:nvPicPr>
        <p:blipFill>
          <a:blip r:embed="rId3"/>
          <a:stretch/>
        </p:blipFill>
        <p:spPr>
          <a:xfrm>
            <a:off x="6229440" y="2133720"/>
            <a:ext cx="22082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oiden ja avustajien käy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pitäjän velvollisuus avustaa viranom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tiedonsaantioikeudet, ilmoitus- ja tiedonantovelvollisuudesta tarkemmin sää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oitusvelvollisuus poliis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960" indent="-362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iranomaisen harkintavalta laissa säädetyin edellytyks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71C-3230-4F48-B4EB-96CE6D615B54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c00000"/>
                </a:solidFill>
                <a:latin typeface="Arial"/>
              </a:rPr>
              <a:t>Kiito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2A3-8709-43F2-BB5B-EBC74375A62C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H:\_A_ Kuvat\ritva.jpg"/>
          <p:cNvPicPr/>
          <p:nvPr/>
        </p:nvPicPr>
        <p:blipFill>
          <a:blip r:embed="rId1"/>
          <a:stretch/>
        </p:blipFill>
        <p:spPr>
          <a:xfrm>
            <a:off x="2843280" y="2098800"/>
            <a:ext cx="36003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aikata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ettu laki korvaisi eläinsuojelulain (247/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 laiksi eläinten hyvinvoinnista lausuntokierroksella, joka päättyy 28.2. (Lausuntopalvelu.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duskuntaan kevätkaudella 2018, voimaan vuonn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1D4A-F1CB-4CC2-8F37-FF99B68A4A8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Kuvia\IMG_4283.JPG"/>
          <p:cNvPicPr/>
          <p:nvPr/>
        </p:nvPicPr>
        <p:blipFill>
          <a:blip r:embed="rId4"/>
          <a:stretch/>
        </p:blipFill>
        <p:spPr>
          <a:xfrm>
            <a:off x="6802560" y="293832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tavoi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in saattaminen perustuslain vaatimusten mukais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lkeän laintasoisen sääntelyn luo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U-lainsäädännön täytäntöönpanon varmi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paran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suojeluvalvonnan teho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en hallitusohjelman vaik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66E-0E7C-4552-B36B-400D57F08AE4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ain tarko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edis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suojeleminen parhaalla mahdollisella tavalla niiden hyvinvoinnille aiheutuvalta hait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unnioituksen ja hyvän kohtelun lisä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ki koskee kaikkia eläimi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EF1-0894-47E3-B079-C6A300611BB1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KUVIA\Picture 046.jpg"/>
          <p:cNvPicPr/>
          <p:nvPr/>
        </p:nvPicPr>
        <p:blipFill>
          <a:blip r:embed="rId5"/>
          <a:stretch/>
        </p:blipFill>
        <p:spPr>
          <a:xfrm>
            <a:off x="6662880" y="4511520"/>
            <a:ext cx="17492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ä kohtelu eläimiä kunnioitta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peettoman kivun ja kärsimyksen aiheutta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to vaarantaa tarpeettomasti eläinten hyvinv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tta jättämisen ja hylkää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BE3-FCFB-4E79-BC9A-51F69665C4F3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iraan tai vahingoittuneen eläimen autt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 eläinten hyvinvoin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en va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omistaja tai pitäj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yksin alle 16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vontaviranom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DDAE-1AB9-44FD-B21F-97E92809E665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:\Kuvia\IMG_3445.JPG"/>
          <p:cNvPicPr/>
          <p:nvPr/>
        </p:nvPicPr>
        <p:blipFill>
          <a:blip r:embed="rId3"/>
          <a:stretch/>
        </p:blipFill>
        <p:spPr>
          <a:xfrm>
            <a:off x="6808680" y="3571920"/>
            <a:ext cx="1640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ivi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 luettelo eläinlajeista, joita voidaan pitää tiettyyn tarkoituk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in: sirkuseläimet, tuotantotarkoituksiin tarhattavat luonnonvaraiset eläi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us: lakiin nisäkäs- ja lintulajit, joita voidaan pitää tuotantoeläiminä sekä sirkuseläiminä pidettävät la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etukseen: lajit, joita voidaan pitää seura- ja harrastuseläimin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326-18FE-4281-9ED9-B0BD3156C01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H:\_A_ Kuvat\papukaija.jpg"/>
          <p:cNvPicPr/>
          <p:nvPr/>
        </p:nvPicPr>
        <p:blipFill>
          <a:blip r:embed="rId4"/>
          <a:stretch/>
        </p:blipFill>
        <p:spPr>
          <a:xfrm>
            <a:off x="1547640" y="260280"/>
            <a:ext cx="1225800" cy="162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:\_A_ Kuvat\mangusti.jpg"/>
          <p:cNvPicPr/>
          <p:nvPr/>
        </p:nvPicPr>
        <p:blipFill>
          <a:blip r:embed="rId5"/>
          <a:stretch/>
        </p:blipFill>
        <p:spPr>
          <a:xfrm>
            <a:off x="6541920" y="268200"/>
            <a:ext cx="10861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arsinaveta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ypsylehmien ja hiehojen pitoa parsinavetoissa ei kiellettäis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kehitys johtaa parsinavetoista luopu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ikkeus: muiden nautojen kytkettynä pito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vestointitukea ei enää myönn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344C-2399-4DB8-A0BA-0945E83C82EF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:\_A_ Kuvat\nauta01.jpg"/>
          <p:cNvPicPr/>
          <p:nvPr/>
        </p:nvPicPr>
        <p:blipFill>
          <a:blip r:embed="rId4"/>
          <a:stretch/>
        </p:blipFill>
        <p:spPr>
          <a:xfrm>
            <a:off x="7308720" y="3718080"/>
            <a:ext cx="12988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ti</cp:lastModifiedBy>
  <cp:lastPrinted>2017-11-21T19:39:10Z</cp:lastPrinted>
  <dcterms:modified xsi:type="dcterms:W3CDTF">2018-02-08T13:06:54Z</dcterms:modified>
  <cp:revision>1178</cp:revision>
  <dc:subject/>
  <dc:title>PowerPoint Presentation</dc:title>
</cp:coreProperties>
</file>