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927-AFE8-405E-8EEE-7D516123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45A-17A8-421B-BABA-33E65D7F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53A-E377-47D1-8CA2-85E3A9EE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5DE-CC47-4F93-AC90-4ED49E7C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BFAD-C4EF-43C8-99E0-F9A26E36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9617-5FC6-49BC-9107-AD004B0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FFB-F6A5-49FC-89C5-27FF61D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C33-77BC-43BF-9F5A-80D884F1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0702-0D4F-4B29-881E-18416F88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14E2-441C-4A97-80E2-FAF43E84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EAD-ACE9-4147-BCF7-A604CF2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986-8516-4912-B2B3-0F9E0B1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48F5-5C7E-4B56-8E18-933654B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B5C-2A3A-4141-9562-C898E00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5B3-B563-4D40-84A0-D1D37B99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48D-33E0-4187-A60D-069B81A9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1D5-0D7D-48EE-B00E-9F187B70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DFF-A5B2-445C-988C-881FBD8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8C2-0931-4000-A6FF-FADC3AE1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E77-CD71-4593-AA32-4B48712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065-D085-41A6-BECE-D7B69F5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265-9744-4D19-8B46-F429A08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8B8-1DF1-488E-9A4E-1593A73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883-0709-4E37-9043-E7EEB27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BF5D-040F-4F13-B3AE-B2B6102C3F4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A822-1E4D-42E0-8E0F-96124196E48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uonnos laiksi eläinten hyvinvoinnist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lääkintöylitarkastaja Tiina Pullola, Maa- ja metsätalousministeri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iineytyshäkit, porsitushä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ssa ja peruskorjattavissa sikaloissa kielto tulisi voimaan h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ssa sikaloissa luopuminen 15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7D1-30DD-414C-991A-8FA03C6C7B1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:\_A_ Kuvat\sika02.jpg"/>
          <p:cNvPicPr/>
          <p:nvPr/>
        </p:nvPicPr>
        <p:blipFill>
          <a:blip r:embed="rId3"/>
          <a:stretch/>
        </p:blipFill>
        <p:spPr>
          <a:xfrm>
            <a:off x="6132600" y="393696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Hevospilttu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vosten pito pilttuussa karsinan sijaan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D8FE-8F17-4864-B92A-9477F8B654D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:\_A_ Kuvat\hevonen01_p.jpg"/>
          <p:cNvPicPr/>
          <p:nvPr/>
        </p:nvPicPr>
        <p:blipFill>
          <a:blip r:embed="rId2"/>
          <a:stretch/>
        </p:blipFill>
        <p:spPr>
          <a:xfrm>
            <a:off x="6516720" y="2998800"/>
            <a:ext cx="17985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ivuliaat toimenpi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ikkaus tai muu kipua tai kärsimystä aiheuttava toimenp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vunlievitys pakolliseks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ellei toimenpiteestä aiheutuva kipu ole lievää ja hetkellistä tai jos toimenpide ei siedä viivyty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ksen muodosta ja toimenpiteen tekijästä säädettäisiin asetustasolla (eläinlääkäri, muu pätevä henkil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CE4-20A1-45CB-8F68-18E335D4996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edensa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i muutosta nykyis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kennukset eläinlajikohtaisissa asetuks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sim. tietyille eläinlajeille ja eläinryhmille jatkuva vedensa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321E-B745-4941-9DC4-18A3B0AEDD69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:\Kuvia\Annecy&amp;Biel 234.JPG"/>
          <p:cNvPicPr/>
          <p:nvPr/>
        </p:nvPicPr>
        <p:blipFill>
          <a:blip r:embed="rId3"/>
          <a:stretch/>
        </p:blipFill>
        <p:spPr>
          <a:xfrm>
            <a:off x="6516720" y="731880"/>
            <a:ext cx="1920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pitäjän ja muun hoitajan pätevy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illa eläinten pitäjillä ja hoitajilla tulee olla eläinten hyvinvoinnin kannalta riittävä osa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mmattimaisesti tai muuten laajassa mitassa eläimiä pitä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tevyysvaatimuksesta tuotantoeläinten pitäjien ja hoitajien osalta säädetty jo huhtikuussa 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atimukset laajennettaisiin koskemaan myös muita kuin tuotantoeläinten pitäjiä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BC3-2BA2-4F54-9E19-9F425CDFEDB6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älineet, laitteet ja ain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uolellisuusvelvoite välineiden, laitteiden ja ain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lmis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jille ja -vie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ulje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upanpitäjille ja muille luovu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nti, valmistus, luovutus, käyttö ja hallussapito kiellet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m. piikkipannat ja sähköpann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FF83-FCC6-4E77-93C9-BFB04357C24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:\_A_ Kuvat\piikkipanta.jpg"/>
          <p:cNvPicPr/>
          <p:nvPr/>
        </p:nvPicPr>
        <p:blipFill>
          <a:blip r:embed="rId3"/>
          <a:stretch/>
        </p:blipFill>
        <p:spPr>
          <a:xfrm>
            <a:off x="6875640" y="249228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lla tulee pyrkiä elinvoimaisten, toimintakykyisten ja terveiden eläinten tuot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en liittyvien vaatimusten selkeyttäminen laissa, viranomaisille paremmat mahdollisuudet puuttua ääritapauk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BC5F-D807-41B1-807D-D347510BEDAF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:\_A_ Kuvat\sharpei.jpg"/>
          <p:cNvPicPr/>
          <p:nvPr/>
        </p:nvPicPr>
        <p:blipFill>
          <a:blip r:embed="rId3"/>
          <a:stretch/>
        </p:blipFill>
        <p:spPr>
          <a:xfrm>
            <a:off x="6732720" y="228600"/>
            <a:ext cx="197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elto laki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rkittävää hyvinvointihaittaa jälkeläisille aiheuttava jalostusyhdistelm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ka ei pysty lisääntymään luonnoll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lle lisääntymisestä aiheutuu merkittävää hyvinvointihait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isäkkäiden hallitsematon lisääntyminen estettäv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24E-6E75-49AC-9CD0-763490B938D1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lettyä olisi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elkärankaist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eläinten elätettäväksi ottaminen luonn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laisella olisi oikeus ottaa loukkaantunut tai muutoin avuton eläin haltuunsa vain ensiapua tai hoitoon toimittamist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0322-6268-4F7A-B449-9F032CA100A3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:\Kuvia\Annecy&amp;Biel 189.JPG"/>
          <p:cNvPicPr/>
          <p:nvPr/>
        </p:nvPicPr>
        <p:blipFill>
          <a:blip r:embed="rId3"/>
          <a:stretch/>
        </p:blipFill>
        <p:spPr>
          <a:xfrm>
            <a:off x="6443640" y="421812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an eläinlääkärin vastaanotolle tuotujen loukkaantuneiden luonnonvaraisten lopetus järjestettäv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nvaraisten eläinten pidempiaikainen hoito ilmoituksenvaraiseksi toiminnaksi, hoidetut eläimet joko takaisin luontoon tai eläintarh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6AB-0D2F-42A1-BE2B-BDD7A888B0BF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valmist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n valmisteluryhmä aloitti työnsä kesäkuuss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ryhmän toimikausi 24.9.2012 - 31.12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ausryhmän toimikausi 24.9.2012 - 31.12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kamiesvalmistelu ja kaksi ohjausryhmän kokousta v.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422-9C12-43CC-AFB3-5B0D0AFF1B0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kuljetus osaksi maakunnan järjestämää löytöeläinten hoi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säilytysaika lyhenisi 15 päivästä 10 päivä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8EA1-9E06-4C3E-9E02-480B874FE10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:\KUVIA\Pikkukuva Kissa.jpg"/>
          <p:cNvPicPr/>
          <p:nvPr/>
        </p:nvPicPr>
        <p:blipFill>
          <a:blip r:embed="rId3"/>
          <a:stretch/>
        </p:blipFill>
        <p:spPr>
          <a:xfrm>
            <a:off x="3998880" y="4078440"/>
            <a:ext cx="1285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hoitolan pitäjälle velvollisuus tarkastaa tunnistusmerkintä ja pyrkiä löytämään omis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siapu ja muu kohtuullinen sairauden h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ille tilastointivelvollisuus löytöeläi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DAE1-CDF1-4ABD-A6F3-4C49B106E59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D:\Kuvia\Picture 029.jpg"/>
          <p:cNvPicPr/>
          <p:nvPr/>
        </p:nvPicPr>
        <p:blipFill>
          <a:blip r:embed="rId4"/>
          <a:stretch/>
        </p:blipFill>
        <p:spPr>
          <a:xfrm>
            <a:off x="3852720" y="4724280"/>
            <a:ext cx="1652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van- ja ilmoituksenvarainen eläinten pito ja eläinkilpai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81342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pihojen (= ei luonnonvaraisia eläinlajeja) luvanvaraisuudesta luovutta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iski”eläinkilpailujen järjestäminen ilmoituksenvaraiseksi toiminna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lpailueläinlääkäri osaksi järjestäjän omavalvo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älle kirjanpitovelvollisuus olosuhteista ja tapahtu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747-5ECA-4383-B42E-236237EF7035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:\_A_ Kuvat\elkoriver.jpg"/>
          <p:cNvPicPr/>
          <p:nvPr/>
        </p:nvPicPr>
        <p:blipFill>
          <a:blip r:embed="rId3"/>
          <a:stretch/>
        </p:blipFill>
        <p:spPr>
          <a:xfrm>
            <a:off x="6156360" y="2779560"/>
            <a:ext cx="2232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lope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aikki teurastettavat eläimet on tainnutettava ennen verenlaskun aloittami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myö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skonnollisista syistä noudatettava erityinen teurastus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maan käyttöön teurastettava siipika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B2D0-5854-4EBE-92B2-5926DC5969C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:\_A_ Kuvat\lammas01.jpg"/>
          <p:cNvPicPr/>
          <p:nvPr/>
        </p:nvPicPr>
        <p:blipFill>
          <a:blip r:embed="rId2"/>
          <a:stretch/>
        </p:blipFill>
        <p:spPr>
          <a:xfrm>
            <a:off x="7093080" y="4172040"/>
            <a:ext cx="1377720" cy="153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:\_A_ Kuvat\siipikarja_p.jpg"/>
          <p:cNvPicPr/>
          <p:nvPr/>
        </p:nvPicPr>
        <p:blipFill>
          <a:blip r:embed="rId3"/>
          <a:stretch/>
        </p:blipFill>
        <p:spPr>
          <a:xfrm>
            <a:off x="5479920" y="4486320"/>
            <a:ext cx="160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, Elintarviketurvallisuusvir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ta, poliisi, rajaeläinlääkä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velvollisuus ryhtyä toimenpit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llinnolliset pakkokei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3FA-757D-43D2-AAAC-44255CAA8F3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:\Kuvia\Mynchen_Ortisei_2014 2014-06-20 133.JPG"/>
          <p:cNvPicPr/>
          <p:nvPr/>
        </p:nvPicPr>
        <p:blipFill>
          <a:blip r:embed="rId3"/>
          <a:stretch/>
        </p:blipFill>
        <p:spPr>
          <a:xfrm>
            <a:off x="6229440" y="2133720"/>
            <a:ext cx="22082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oiden ja avustajien käy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pitäjän velvollisuus avustaa viranom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tiedonsaantioikeudet, ilmoitus- ja tiedonantovelvollisuudesta tarkemmin sää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oitusvelvollisuus poliis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960" indent="-362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iranomaisen harkintavalta laissa säädetyin edellytyks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3B4-7948-4F00-BAE6-DAD2AEB4A8E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c00000"/>
                </a:solidFill>
                <a:latin typeface="Arial"/>
              </a:rPr>
              <a:t>Kiito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DD98-D967-4E48-A003-DD17CBD8653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H:\_A_ Kuvat\ritva.jpg"/>
          <p:cNvPicPr/>
          <p:nvPr/>
        </p:nvPicPr>
        <p:blipFill>
          <a:blip r:embed="rId1"/>
          <a:stretch/>
        </p:blipFill>
        <p:spPr>
          <a:xfrm>
            <a:off x="2843280" y="2098800"/>
            <a:ext cx="36003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aikata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ettu laki korvaisi eläinsuojelulain (247/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 laiksi eläinten hyvinvoinnista lausuntokierroksella, joka päättyy 28.2. (Lausuntopalvelu.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duskuntaan kevätkaudella 2018, voimaan vuonn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EDF9-6C4E-4424-A0D3-E6B34980BEA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Kuvia\IMG_4283.JPG"/>
          <p:cNvPicPr/>
          <p:nvPr/>
        </p:nvPicPr>
        <p:blipFill>
          <a:blip r:embed="rId4"/>
          <a:stretch/>
        </p:blipFill>
        <p:spPr>
          <a:xfrm>
            <a:off x="6802560" y="293832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tavoi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in saattaminen perustuslain vaatimusten mukais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lkeän laintasoisen sääntelyn luo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U-lainsäädännön täytäntöönpanon varmi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paran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suojeluvalvonnan teho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en hallitusohjelman vaik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5F4A-6428-4620-AFE5-8EDFD6643A5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ain tarko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edis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suojeleminen parhaalla mahdollisella tavalla niiden hyvinvoinnille aiheutuvalta hait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unnioituksen ja hyvän kohtelun lisä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ki koskee kaikkia eläimi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49E3-CBC7-4039-AA1D-2DDFC8505C5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KUVIA\Picture 046.jpg"/>
          <p:cNvPicPr/>
          <p:nvPr/>
        </p:nvPicPr>
        <p:blipFill>
          <a:blip r:embed="rId5"/>
          <a:stretch/>
        </p:blipFill>
        <p:spPr>
          <a:xfrm>
            <a:off x="6662880" y="4511520"/>
            <a:ext cx="17492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ä kohtelu eläimiä kunnioitta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peettoman kivun ja kärsimyksen aiheutta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to vaarantaa tarpeettomasti eläinten hyvinv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tta jättämisen ja hylkää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D581-8EBB-4D2C-9AC6-08D5054912C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iraan tai vahingoittuneen eläimen autt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 eläinten hyvinvoin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en va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omistaja tai pitäj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yksin alle 16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vontaviranom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271D-6DC1-4591-A7E8-9CD058B80ED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:\Kuvia\IMG_3445.JPG"/>
          <p:cNvPicPr/>
          <p:nvPr/>
        </p:nvPicPr>
        <p:blipFill>
          <a:blip r:embed="rId3"/>
          <a:stretch/>
        </p:blipFill>
        <p:spPr>
          <a:xfrm>
            <a:off x="6808680" y="3571920"/>
            <a:ext cx="1640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ivi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 luettelo eläinlajeista, joita voidaan pitää tiettyyn tarkoituk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in: sirkuseläimet, tuotantotarkoituksiin tarhattavat luonnonvaraiset eläi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us: lakiin nisäkäs- ja lintulajit, joita voidaan pitää tuotantoeläiminä sekä sirkuseläiminä pidettävät la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etukseen: lajit, joita voidaan pitää seura- ja harrastuseläimin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D10C-4DC6-45F5-B140-06044E6676F4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H:\_A_ Kuvat\papukaija.jpg"/>
          <p:cNvPicPr/>
          <p:nvPr/>
        </p:nvPicPr>
        <p:blipFill>
          <a:blip r:embed="rId4"/>
          <a:stretch/>
        </p:blipFill>
        <p:spPr>
          <a:xfrm>
            <a:off x="1547640" y="260280"/>
            <a:ext cx="1225800" cy="162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:\_A_ Kuvat\mangusti.jpg"/>
          <p:cNvPicPr/>
          <p:nvPr/>
        </p:nvPicPr>
        <p:blipFill>
          <a:blip r:embed="rId5"/>
          <a:stretch/>
        </p:blipFill>
        <p:spPr>
          <a:xfrm>
            <a:off x="6541920" y="268200"/>
            <a:ext cx="10861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arsinaveta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ypsylehmien ja hiehojen pitoa parsinavetoissa ei kiellettäis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kehitys johtaa parsinavetoista luopu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ikkeus: muiden nautojen kytkettynä pito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vestointitukea ei enää myönn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C22A-7021-4DC0-87E4-43770CEEB94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:\_A_ Kuvat\nauta01.jpg"/>
          <p:cNvPicPr/>
          <p:nvPr/>
        </p:nvPicPr>
        <p:blipFill>
          <a:blip r:embed="rId4"/>
          <a:stretch/>
        </p:blipFill>
        <p:spPr>
          <a:xfrm>
            <a:off x="7308720" y="3718080"/>
            <a:ext cx="12988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ti</cp:lastModifiedBy>
  <cp:lastPrinted>2017-11-21T19:39:10Z</cp:lastPrinted>
  <dcterms:modified xsi:type="dcterms:W3CDTF">2018-02-08T13:06:54Z</dcterms:modified>
  <cp:revision>1178</cp:revision>
  <dc:subject/>
  <dc:title>PowerPoint Presentation</dc:title>
</cp:coreProperties>
</file>